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28FC1-64A8-4089-A843-07B734E6E7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AA53F-38A6-4ED3-8216-5075C26BC4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D8C3A-5C59-4265-8053-6CE5F2F223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3350D-8A35-4991-A86F-8B6D8C3E2A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0AACB-1624-43D8-A487-AF0B915D66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112A9-ED16-41E1-8262-57F911CC31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92556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4D7E4-842E-453E-8602-05BB206334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538E-9CFC-46CE-B8FF-A8CA49F33D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34E5-8352-4693-A0EE-7E694F54FF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1BACA-A25A-4AF3-AA1C-82C09A61C4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9BB0-D20F-4132-A71E-2D755A9169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68B-80C2-44F6-AAE6-964D8C66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AF4-A619-4B10-A1E1-421B5AA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65F-8A78-4F69-8A05-59F57A7B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A08-F62A-41F2-9B5B-6720F2FA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1C9-E130-4CE9-A870-B67099EB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D7C-C8E7-4684-87EA-E423AD37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C16-F5DE-45C7-9E18-A919B96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18F-1C58-46B5-A5B2-B370401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4480" cy="80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B8F-3AD9-441E-8FE8-268E5A7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345-9723-4749-B2DB-DDC48AF3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C9B-56A6-4AE2-8B39-9EB0827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8CD-60E6-4CF6-949C-AAFD7FC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3640" cy="6846480"/>
            <a:chOff x="0" y="0"/>
            <a:chExt cx="9143640" cy="6846480"/>
          </a:xfrm>
        </p:grpSpPr>
        <p:sp>
          <p:nvSpPr>
            <p:cNvPr id="1" name="Freeform 2"/>
            <p:cNvSpPr/>
            <p:nvPr/>
          </p:nvSpPr>
          <p:spPr>
            <a:xfrm>
              <a:off x="8002800" y="4164120"/>
              <a:ext cx="1140840" cy="268236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44240" y="6018120"/>
              <a:ext cx="599400" cy="82836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0800" y="6684840"/>
              <a:ext cx="13284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5400" y="0"/>
              <a:ext cx="8083080" cy="6841800"/>
              <a:chOff x="455400" y="0"/>
              <a:chExt cx="8083080" cy="684180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0440" y="0"/>
                <a:ext cx="1141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895280" y="0"/>
                <a:ext cx="27576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21880" y="0"/>
                <a:ext cx="5346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25160" y="0"/>
                <a:ext cx="6775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53560" y="0"/>
                <a:ext cx="8852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29840" y="0"/>
                <a:ext cx="10944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67600" y="0"/>
                <a:ext cx="137088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1960" y="0"/>
                <a:ext cx="2376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16520" y="0"/>
                <a:ext cx="4759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79680" y="0"/>
                <a:ext cx="6746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84880" y="0"/>
                <a:ext cx="9122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0600" y="0"/>
                <a:ext cx="116928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5400" y="0"/>
                <a:ext cx="13327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7560" y="4600800"/>
              <a:ext cx="961560" cy="22456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7560" y="6170400"/>
              <a:ext cx="36144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75840" y="0"/>
              <a:ext cx="1561680" cy="28342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7996320" y="0"/>
              <a:ext cx="1141200" cy="13410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0240" y="0"/>
              <a:ext cx="647280" cy="6570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756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7560" y="0"/>
              <a:ext cx="933120" cy="9504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7560" y="0"/>
              <a:ext cx="428400" cy="3996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0" y="4359600"/>
              <a:ext cx="9136080" cy="108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0" y="3735720"/>
              <a:ext cx="9136080" cy="144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0" y="498348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0" y="622080"/>
              <a:ext cx="9131400" cy="2484720"/>
              <a:chOff x="0" y="622080"/>
              <a:chExt cx="9131400" cy="248472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0" y="1240200"/>
                <a:ext cx="9131400" cy="144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0" y="3105360"/>
                <a:ext cx="9131400" cy="144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0" y="248508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0" y="186192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0" y="62208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0" y="623088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0" y="560700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5D89D4-F1CB-4E3A-94F6-C1A169AD4D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7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7000"/>
              </a:lnSpc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7000"/>
              </a:lnSpc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784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336600"/>
                </a:solidFill>
                <a:latin typeface="Arial"/>
              </a:rPr>
              <a:t>Inclusão Digital e Uso de Tecnologias Educacionais nas Escolas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240000"/>
            <a:ext cx="741708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nistério da Educ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cretaria de Educação a Distâ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iretoria de Infra-estrutura em Tecnologia Educ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308720" y="609300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336600"/>
                </a:solidFill>
                <a:latin typeface="Arial"/>
              </a:rPr>
              <a:t>SEED – Programas e Projetos em Andamento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5075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Infra-estrutura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–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grama Nacional de Tecnologia Educacional -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ProInf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ojeto Um Computador por Aluno (UC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rteira Digi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book para Professo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onexão –</a:t>
            </a:r>
            <a:r>
              <a:rPr b="1" lang="pt-BR" sz="24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ESA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anda Larga nas Escol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de Nacional Banda Larg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onteúdos –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nux Educacio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tal Domínio Públi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tal do 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anco Internacional de Objetos Educacion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apacitação –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ídias na Educaçã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pacitação em Tecnologias Educacion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7740720" y="6308640"/>
            <a:ext cx="1217520" cy="3636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826920" y="2349360"/>
            <a:ext cx="1295640" cy="228600"/>
          </a:xfrm>
          <a:custGeom>
            <a:avLst/>
            <a:gdLst>
              <a:gd name="textAreaLeft" fmla="*/ 14760 w 1295640"/>
              <a:gd name="textAreaRight" fmla="*/ 1280880 w 1295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64" h="21600">
                <a:moveTo>
                  <a:pt x="0" y="0"/>
                </a:moveTo>
                <a:lnTo>
                  <a:pt x="122264" y="0"/>
                </a:lnTo>
                <a:lnTo>
                  <a:pt x="122264" y="21600"/>
                </a:lnTo>
                <a:lnTo>
                  <a:pt x="0" y="21600"/>
                </a:lnTo>
                <a:close/>
              </a:path>
              <a:path fill="lightenLess" w="122264" h="21600">
                <a:moveTo>
                  <a:pt x="0" y="0"/>
                </a:moveTo>
                <a:lnTo>
                  <a:pt x="122264" y="0"/>
                </a:lnTo>
                <a:lnTo>
                  <a:pt x="120864" y="1400"/>
                </a:lnTo>
                <a:lnTo>
                  <a:pt x="1400" y="1400"/>
                </a:lnTo>
                <a:close/>
              </a:path>
              <a:path fill="darken" w="122264" h="21600">
                <a:moveTo>
                  <a:pt x="122264" y="0"/>
                </a:moveTo>
                <a:lnTo>
                  <a:pt x="122264" y="21600"/>
                </a:lnTo>
                <a:lnTo>
                  <a:pt x="120864" y="20200"/>
                </a:lnTo>
                <a:lnTo>
                  <a:pt x="120864" y="1400"/>
                </a:lnTo>
                <a:close/>
              </a:path>
              <a:path fill="darkenLess" w="122264" h="21600">
                <a:moveTo>
                  <a:pt x="122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64" y="20200"/>
                </a:lnTo>
                <a:close/>
              </a:path>
              <a:path fill="lighten" w="122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264" h="21600">
                <a:moveTo>
                  <a:pt x="54126" y="3794"/>
                </a:moveTo>
                <a:lnTo>
                  <a:pt x="68139" y="10800"/>
                </a:lnTo>
                <a:lnTo>
                  <a:pt x="541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3" action="ppaction://hlinksldjump"/>
          </p:cNvPr>
          <p:cNvSpPr/>
          <p:nvPr/>
        </p:nvSpPr>
        <p:spPr>
          <a:xfrm>
            <a:off x="685800" y="3886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11" h="21600">
                <a:moveTo>
                  <a:pt x="53449" y="3794"/>
                </a:moveTo>
                <a:lnTo>
                  <a:pt x="67462" y="10800"/>
                </a:lnTo>
                <a:lnTo>
                  <a:pt x="534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336600"/>
                </a:solidFill>
                <a:latin typeface="Arial"/>
              </a:rPr>
              <a:t>SEED/DITEC – Gestão de Programas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324000" y="1052640"/>
            <a:ext cx="8146800" cy="5112720"/>
            <a:chOff x="324000" y="1052640"/>
            <a:chExt cx="8146800" cy="5112720"/>
          </a:xfrm>
        </p:grpSpPr>
        <p:sp>
          <p:nvSpPr>
            <p:cNvPr id="182" name="AutoShape 4"/>
            <p:cNvSpPr/>
            <p:nvPr/>
          </p:nvSpPr>
          <p:spPr>
            <a:xfrm>
              <a:off x="324000" y="1052640"/>
              <a:ext cx="8146800" cy="42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56"/>
            <p:cNvSpPr/>
            <p:nvPr/>
          </p:nvSpPr>
          <p:spPr>
            <a:xfrm>
              <a:off x="3203640" y="1052640"/>
              <a:ext cx="25905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Arial"/>
                </a:rPr>
                <a:t>ProInfo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7"/>
            <p:cNvSpPr/>
            <p:nvPr/>
          </p:nvSpPr>
          <p:spPr>
            <a:xfrm>
              <a:off x="324000" y="3012840"/>
              <a:ext cx="25923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oordenaçõ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staduai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8"/>
            <p:cNvSpPr/>
            <p:nvPr/>
          </p:nvSpPr>
          <p:spPr>
            <a:xfrm>
              <a:off x="3276720" y="3012840"/>
              <a:ext cx="25905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9"/>
            <p:cNvSpPr/>
            <p:nvPr/>
          </p:nvSpPr>
          <p:spPr>
            <a:xfrm>
              <a:off x="3492360" y="5254560"/>
              <a:ext cx="2100240" cy="910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6"/>
          <p:cNvSpPr/>
          <p:nvPr/>
        </p:nvSpPr>
        <p:spPr>
          <a:xfrm>
            <a:off x="169236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5007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738036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4500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1619280" y="414972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4500720" y="4076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>
            <a:off x="1619280" y="57340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644364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D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>
            <a:off x="6443640" y="4365720"/>
            <a:ext cx="1944720" cy="1081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558000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7380360" y="544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2"/>
          <p:cNvSpPr/>
          <p:nvPr/>
        </p:nvSpPr>
        <p:spPr>
          <a:xfrm>
            <a:off x="521964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5219640" y="4797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291636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5"/>
          <p:cNvSpPr/>
          <p:nvPr/>
        </p:nvSpPr>
        <p:spPr>
          <a:xfrm>
            <a:off x="5867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7"/>
          <p:cNvSpPr/>
          <p:nvPr/>
        </p:nvSpPr>
        <p:spPr>
          <a:xfrm>
            <a:off x="1692360" y="2637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8" descr=""/>
          <p:cNvPicPr/>
          <p:nvPr/>
        </p:nvPicPr>
        <p:blipFill>
          <a:blip r:embed="rId1"/>
          <a:stretch/>
        </p:blipFill>
        <p:spPr>
          <a:xfrm>
            <a:off x="7596360" y="6237360"/>
            <a:ext cx="1361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353960" y="3141720"/>
            <a:ext cx="2210040" cy="12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38080" y="2657520"/>
            <a:ext cx="762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397160" y="5462640"/>
            <a:ext cx="6860880" cy="8128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962280" cy="982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693800" y="571680"/>
            <a:ext cx="6604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Verdana"/>
              </a:rPr>
              <a:t>Ministério da Educ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PAPÉ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499400" y="2994120"/>
            <a:ext cx="19378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MEC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63800" y="1904760"/>
            <a:ext cx="371628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97000"/>
              </a:lnSpc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omen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oorden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rticu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upervision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uplemen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0">
              <a:lnSpc>
                <a:spcPct val="120000"/>
              </a:lnSpc>
              <a:spcBef>
                <a:spcPts val="799"/>
              </a:spcBef>
              <a:spcAft>
                <a:spcPts val="850"/>
              </a:spcAft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9680" indent="0">
              <a:lnSpc>
                <a:spcPct val="120000"/>
              </a:lnSpc>
              <a:spcBef>
                <a:spcPts val="799"/>
              </a:spcBef>
              <a:spcAft>
                <a:spcPts val="850"/>
              </a:spcAft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7273800" y="5851440"/>
            <a:ext cx="1362240" cy="435240"/>
          </a:xfrm>
          <a:prstGeom prst="rect">
            <a:avLst/>
          </a:prstGeom>
          <a:ln w="0">
            <a:noFill/>
          </a:ln>
        </p:spPr>
      </p:pic>
      <p:sp>
        <p:nvSpPr>
          <p:cNvPr id="101" name="Line 10"/>
          <p:cNvSpPr/>
          <p:nvPr/>
        </p:nvSpPr>
        <p:spPr>
          <a:xfrm flipH="1">
            <a:off x="435600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356000" y="2349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3780000" y="33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427640" y="5373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427640" y="422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377964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2411280" y="1523880"/>
            <a:ext cx="6392880" cy="4662720"/>
          </a:xfrm>
          <a:prstGeom prst="roundRect">
            <a:avLst>
              <a:gd name="adj" fmla="val 28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324000" y="2997360"/>
            <a:ext cx="1944360" cy="1008000"/>
          </a:xfrm>
          <a:prstGeom prst="roundRect">
            <a:avLst>
              <a:gd name="adj" fmla="val 10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38080" y="2657520"/>
            <a:ext cx="762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397160" y="5462640"/>
            <a:ext cx="6860880" cy="8128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962280" cy="982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239840" y="671400"/>
            <a:ext cx="69627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Verdana"/>
              </a:rPr>
              <a:t>Ministério da Educa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28098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0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FOCO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11280" y="1712520"/>
            <a:ext cx="63928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LHORIA NA QUALIDADE DA EDUCAÇÃO BÁS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ENTO AO INTERESSE POR C&amp;T E À EDUCAÇÃO TECNOLÓG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MPLIAÇÃO DO ACESSO AO ENSINO SUP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CLUSÃO DIGITAL A PARTIR DA ES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601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LORIZAÇÃO DO PROFESS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136188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7880" y="21960"/>
            <a:ext cx="822816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Arial"/>
              </a:rPr>
              <a:t>Educação Básica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lnSpc>
                <a:spcPct val="107000"/>
              </a:lnSpc>
              <a:spcBef>
                <a:spcPts val="700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94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6600"/>
                </a:solidFill>
                <a:latin typeface="Verdana"/>
              </a:rPr>
              <a:t>Objetivo do P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7000"/>
              </a:lnSpc>
              <a:spcBef>
                <a:spcPts val="1500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94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Aumentar a qualidade da educação básica pública, enfrentando os problemas de rendimento, freqüência e permanência do aluno na escola, a partir da mobilização social em torno do </a:t>
            </a:r>
            <a:r>
              <a:rPr b="1" lang="en-GB" sz="2600" spc="-1" strike="noStrike">
                <a:solidFill>
                  <a:srgbClr val="006600"/>
                </a:solidFill>
                <a:latin typeface="Verdana"/>
              </a:rPr>
              <a:t>Compromisso Todos pela Educação</a:t>
            </a: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572000" y="587520"/>
            <a:ext cx="4567320" cy="6240240"/>
            <a:chOff x="4572000" y="587520"/>
            <a:chExt cx="4567320" cy="6240240"/>
          </a:xfrm>
        </p:grpSpPr>
        <p:sp>
          <p:nvSpPr>
            <p:cNvPr id="120" name="Text Box 6"/>
            <p:cNvSpPr/>
            <p:nvPr/>
          </p:nvSpPr>
          <p:spPr>
            <a:xfrm>
              <a:off x="6093720" y="636876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Luxi Sans"/>
                </a:rPr>
                <a:t>Ministério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Luxi Sans"/>
                </a:rPr>
                <a:t>da Educaçã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7" descr=""/>
            <p:cNvPicPr/>
            <p:nvPr/>
          </p:nvPicPr>
          <p:blipFill>
            <a:blip r:embed="rId2"/>
            <a:stretch/>
          </p:blipFill>
          <p:spPr>
            <a:xfrm>
              <a:off x="7663320" y="6379920"/>
              <a:ext cx="132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8"/>
            <p:cNvSpPr/>
            <p:nvPr/>
          </p:nvSpPr>
          <p:spPr>
            <a:xfrm>
              <a:off x="4572000" y="587520"/>
              <a:ext cx="45673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Existem “brechas digitais” entre comunidades e entre regiões intei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esso à Interne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 tem índice 5,4 vezes menores que o DF (menor índice: 7,6%, contra 41,2% do DF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pulação de menor renda acessa 154 vezes menos que a de maior renda (0,5% contra 77%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ó 2,5% dos estudantes mais pobres usam computador na escola; entre os mais ricos, o índice é de 37,3% (estabelecimentos públicos e privados)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2234880"/>
            <a:ext cx="8964720" cy="51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O MEC reage a essa dura realidade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universalizando a disponibilização de TIC nas escolas públicas de todos os níveis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D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dando prioridade às unidades educacionai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mais baixo IDEB (1.242 municípios c/IDEB&lt;2,0)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calizadas nos chamados “Territórios da Cidadania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buscando formas de garantir conexão às escolas públicas até 201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29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Certeza de que a ID via escol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tende a ser mais consistente, dado o cunho pedag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tem amplo potencial de realização extra-es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Objetivos prioritariamente didático-pedagóg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990720" y="2057400"/>
            <a:ext cx="7315200" cy="1008720"/>
            <a:chOff x="990720" y="2057400"/>
            <a:chExt cx="7315200" cy="1008720"/>
          </a:xfrm>
        </p:grpSpPr>
        <p:grpSp>
          <p:nvGrpSpPr>
            <p:cNvPr id="136" name="Group 3"/>
            <p:cNvGrpSpPr/>
            <p:nvPr/>
          </p:nvGrpSpPr>
          <p:grpSpPr>
            <a:xfrm>
              <a:off x="990720" y="2252880"/>
              <a:ext cx="3314520" cy="466560"/>
              <a:chOff x="990720" y="2252880"/>
              <a:chExt cx="3314520" cy="466560"/>
            </a:xfrm>
          </p:grpSpPr>
          <p:sp>
            <p:nvSpPr>
              <p:cNvPr id="137" name="Oval 4"/>
              <p:cNvSpPr/>
              <p:nvPr/>
            </p:nvSpPr>
            <p:spPr>
              <a:xfrm>
                <a:off x="990720" y="2408400"/>
                <a:ext cx="226800" cy="21744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"/>
              <p:cNvGrpSpPr/>
              <p:nvPr/>
            </p:nvGrpSpPr>
            <p:grpSpPr>
              <a:xfrm>
                <a:off x="1655640" y="2252880"/>
                <a:ext cx="2649600" cy="466560"/>
                <a:chOff x="1655640" y="2252880"/>
                <a:chExt cx="2649600" cy="466560"/>
              </a:xfrm>
            </p:grpSpPr>
            <p:sp>
              <p:nvSpPr>
                <p:cNvPr id="139" name="AutoShape 6"/>
                <p:cNvSpPr/>
                <p:nvPr/>
              </p:nvSpPr>
              <p:spPr>
                <a:xfrm>
                  <a:off x="1655640" y="2252880"/>
                  <a:ext cx="2649600" cy="46656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7"/>
                <p:cNvSpPr/>
                <p:nvPr/>
              </p:nvSpPr>
              <p:spPr>
                <a:xfrm>
                  <a:off x="1853640" y="2311200"/>
                  <a:ext cx="23194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Articulaç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8"/>
            <p:cNvSpPr/>
            <p:nvPr/>
          </p:nvSpPr>
          <p:spPr>
            <a:xfrm>
              <a:off x="5197680" y="2057400"/>
              <a:ext cx="3108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C, Outros Ministério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ED, UND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stado, Município, Esco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4516560" y="2318040"/>
              <a:ext cx="565200" cy="430200"/>
            </a:xfrm>
            <a:prstGeom prst="rightArrow">
              <a:avLst>
                <a:gd name="adj1" fmla="val 50000"/>
                <a:gd name="adj2" fmla="val 32845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990720" y="5105520"/>
            <a:ext cx="7596360" cy="1008720"/>
            <a:chOff x="990720" y="5105520"/>
            <a:chExt cx="7596360" cy="1008720"/>
          </a:xfrm>
        </p:grpSpPr>
        <p:grpSp>
          <p:nvGrpSpPr>
            <p:cNvPr id="144" name="Group 11"/>
            <p:cNvGrpSpPr/>
            <p:nvPr/>
          </p:nvGrpSpPr>
          <p:grpSpPr>
            <a:xfrm>
              <a:off x="990720" y="5213160"/>
              <a:ext cx="3314160" cy="466200"/>
              <a:chOff x="990720" y="5213160"/>
              <a:chExt cx="3314160" cy="466200"/>
            </a:xfrm>
          </p:grpSpPr>
          <p:sp>
            <p:nvSpPr>
              <p:cNvPr id="145" name="Oval 12"/>
              <p:cNvSpPr/>
              <p:nvPr/>
            </p:nvSpPr>
            <p:spPr>
              <a:xfrm>
                <a:off x="990720" y="5368320"/>
                <a:ext cx="226800" cy="21708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13"/>
              <p:cNvGrpSpPr/>
              <p:nvPr/>
            </p:nvGrpSpPr>
            <p:grpSpPr>
              <a:xfrm>
                <a:off x="1655280" y="5213160"/>
                <a:ext cx="2649600" cy="466200"/>
                <a:chOff x="1655280" y="5213160"/>
                <a:chExt cx="2649600" cy="466200"/>
              </a:xfrm>
            </p:grpSpPr>
            <p:sp>
              <p:nvSpPr>
                <p:cNvPr id="147" name="AutoShape 14"/>
                <p:cNvSpPr/>
                <p:nvPr/>
              </p:nvSpPr>
              <p:spPr>
                <a:xfrm>
                  <a:off x="1655280" y="5213160"/>
                  <a:ext cx="2649600" cy="46620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5"/>
                <p:cNvSpPr/>
                <p:nvPr/>
              </p:nvSpPr>
              <p:spPr>
                <a:xfrm>
                  <a:off x="1842120" y="5271480"/>
                  <a:ext cx="231984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Parceri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Text Box 16"/>
            <p:cNvSpPr/>
            <p:nvPr/>
          </p:nvSpPr>
          <p:spPr>
            <a:xfrm>
              <a:off x="5193720" y="5105520"/>
              <a:ext cx="3393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unidad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stabelecimentos de Ensin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7"/>
            <p:cNvSpPr/>
            <p:nvPr/>
          </p:nvSpPr>
          <p:spPr>
            <a:xfrm>
              <a:off x="4519440" y="5276520"/>
              <a:ext cx="564840" cy="429840"/>
            </a:xfrm>
            <a:prstGeom prst="rightArrow">
              <a:avLst>
                <a:gd name="adj1" fmla="val 50000"/>
                <a:gd name="adj2" fmla="val 32852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990720" y="4191120"/>
            <a:ext cx="6512040" cy="703800"/>
            <a:chOff x="990720" y="4191120"/>
            <a:chExt cx="6512040" cy="703800"/>
          </a:xfrm>
        </p:grpSpPr>
        <p:sp>
          <p:nvSpPr>
            <p:cNvPr id="152" name="Text Box 19"/>
            <p:cNvSpPr/>
            <p:nvPr/>
          </p:nvSpPr>
          <p:spPr>
            <a:xfrm>
              <a:off x="5195880" y="4191120"/>
              <a:ext cx="230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enação loc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990720" y="4273560"/>
              <a:ext cx="3315960" cy="465120"/>
              <a:chOff x="990720" y="4273560"/>
              <a:chExt cx="3315960" cy="465120"/>
            </a:xfrm>
          </p:grpSpPr>
          <p:sp>
            <p:nvSpPr>
              <p:cNvPr id="154" name="Oval 21"/>
              <p:cNvSpPr/>
              <p:nvPr/>
            </p:nvSpPr>
            <p:spPr>
              <a:xfrm>
                <a:off x="990720" y="4427640"/>
                <a:ext cx="226800" cy="21600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22"/>
              <p:cNvGrpSpPr/>
              <p:nvPr/>
            </p:nvGrpSpPr>
            <p:grpSpPr>
              <a:xfrm>
                <a:off x="1655640" y="4273560"/>
                <a:ext cx="2651040" cy="465120"/>
                <a:chOff x="1655640" y="4273560"/>
                <a:chExt cx="2651040" cy="465120"/>
              </a:xfrm>
            </p:grpSpPr>
            <p:sp>
              <p:nvSpPr>
                <p:cNvPr id="156" name="AutoShape 23"/>
                <p:cNvSpPr/>
                <p:nvPr/>
              </p:nvSpPr>
              <p:spPr>
                <a:xfrm>
                  <a:off x="1655640" y="4273560"/>
                  <a:ext cx="2651040" cy="46512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24"/>
                <p:cNvSpPr/>
                <p:nvPr/>
              </p:nvSpPr>
              <p:spPr>
                <a:xfrm>
                  <a:off x="1853640" y="4330440"/>
                  <a:ext cx="23194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Descentralizaç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AutoShape 25"/>
            <p:cNvSpPr/>
            <p:nvPr/>
          </p:nvSpPr>
          <p:spPr>
            <a:xfrm>
              <a:off x="4516560" y="4335480"/>
              <a:ext cx="565200" cy="428760"/>
            </a:xfrm>
            <a:prstGeom prst="rightArrow">
              <a:avLst>
                <a:gd name="adj1" fmla="val 50000"/>
                <a:gd name="adj2" fmla="val 32955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990720" y="3276720"/>
            <a:ext cx="5658120" cy="703800"/>
            <a:chOff x="990720" y="3276720"/>
            <a:chExt cx="5658120" cy="703800"/>
          </a:xfrm>
        </p:grpSpPr>
        <p:grpSp>
          <p:nvGrpSpPr>
            <p:cNvPr id="160" name="Group 27"/>
            <p:cNvGrpSpPr/>
            <p:nvPr/>
          </p:nvGrpSpPr>
          <p:grpSpPr>
            <a:xfrm>
              <a:off x="990720" y="3292560"/>
              <a:ext cx="3309840" cy="461880"/>
              <a:chOff x="990720" y="3292560"/>
              <a:chExt cx="3309840" cy="461880"/>
            </a:xfrm>
          </p:grpSpPr>
          <p:sp>
            <p:nvSpPr>
              <p:cNvPr id="161" name="Oval 28"/>
              <p:cNvSpPr/>
              <p:nvPr/>
            </p:nvSpPr>
            <p:spPr>
              <a:xfrm>
                <a:off x="990720" y="3448080"/>
                <a:ext cx="227160" cy="21600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29"/>
              <p:cNvGrpSpPr/>
              <p:nvPr/>
            </p:nvGrpSpPr>
            <p:grpSpPr>
              <a:xfrm>
                <a:off x="1652760" y="3292560"/>
                <a:ext cx="2647800" cy="461880"/>
                <a:chOff x="1652760" y="3292560"/>
                <a:chExt cx="2647800" cy="461880"/>
              </a:xfrm>
            </p:grpSpPr>
            <p:sp>
              <p:nvSpPr>
                <p:cNvPr id="163" name="AutoShape 30"/>
                <p:cNvSpPr/>
                <p:nvPr/>
              </p:nvSpPr>
              <p:spPr>
                <a:xfrm>
                  <a:off x="1652760" y="3292560"/>
                  <a:ext cx="2647800" cy="46188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1"/>
                <p:cNvSpPr/>
                <p:nvPr/>
              </p:nvSpPr>
              <p:spPr>
                <a:xfrm>
                  <a:off x="1852560" y="3350880"/>
                  <a:ext cx="23158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Ades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Text Box 32"/>
            <p:cNvSpPr/>
            <p:nvPr/>
          </p:nvSpPr>
          <p:spPr>
            <a:xfrm>
              <a:off x="5194080" y="3276720"/>
              <a:ext cx="145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stituiçõ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essoa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3"/>
            <p:cNvSpPr/>
            <p:nvPr/>
          </p:nvSpPr>
          <p:spPr>
            <a:xfrm>
              <a:off x="4515120" y="3359160"/>
              <a:ext cx="565200" cy="426960"/>
            </a:xfrm>
            <a:prstGeom prst="rightArrow">
              <a:avLst>
                <a:gd name="adj1" fmla="val 50000"/>
                <a:gd name="adj2" fmla="val 33094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684720"/>
            <a:ext cx="6562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1523880" y="404640"/>
            <a:ext cx="7069320" cy="15955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Secretaria de Educação a Distânc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Princípios de Açã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96336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1290600" cy="36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95640"/>
            <a:ext cx="7643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Garamond"/>
              </a:rPr>
              <a:t>Secretaria de Educação a Distância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800" spc="-1" strike="noStrike">
                <a:solidFill>
                  <a:srgbClr val="ffffff"/>
                </a:solidFill>
                <a:latin typeface="Garamond"/>
              </a:rPr>
              <a:t> SEED</a:t>
            </a:r>
            <a:endParaRPr b="0" lang="en-US" sz="3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39760" y="2057400"/>
            <a:ext cx="800424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Quatro eixos de açã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-estru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ex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teú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pacit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8960" cy="87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3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3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3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3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3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ssoli</dc:creator>
  <dc:description/>
  <dc:language>en-US</dc:language>
  <cp:lastModifiedBy>Luciana Catarino</cp:lastModifiedBy>
  <dcterms:modified xsi:type="dcterms:W3CDTF">2009-03-31T17:51:21Z</dcterms:modified>
  <cp:revision>109</cp:revision>
  <dc:subject/>
  <dc:title>ID e Uso Intensivo das TIC  nas Escolas</dc:title>
</cp:coreProperties>
</file>